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7B8-73C8-4D88-8090-59269196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A60-C644-4229-9110-4E53E3E3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B31-A5F3-4E8D-B9C5-2B3F7D65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61C-64EE-4206-A6A9-D6C76780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80D4-D51C-4FE2-B97A-5790DCF7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0C9A-579C-4A51-843F-E121E39E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7D9D-5589-4B4A-8352-BF181A55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E08C-B7C0-4B74-A2E2-EC8DEFA8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A9EB-05DD-4235-AD01-E8AA9D36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076D-F6EE-4A36-925A-E122797E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505B-49F4-4136-8389-76F9E687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01F-BB45-414D-8E2B-24E02C2B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B31B-C857-4C83-BEE3-EC1C8335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87FA-4D71-4CB4-901C-1F1ECE09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FAB0-B201-49CF-8840-AF4E5212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0B0D-7A1C-4D0F-8497-F426651D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982D-B0C7-4CF3-8293-29C15118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C8078-5808-4FDE-BFA6-D807C9D9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0B428-2A43-4A21-BCB7-483A72EE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D0FE6-3AD4-4D3B-8382-9F00115F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2F80C-254C-4C0C-8888-4C4E7996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A4B05-335C-43F2-879C-B908C43E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C7E-9F90-42C9-9769-2336406E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6BB54-8F9C-4C97-A4D7-DC625CAC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09AB6-8709-4B80-8B51-61AA03F5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594FB-AD1A-43F5-9D5E-12AB7397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B2DBD-1B58-4249-94D3-C49D5ED3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B41D3-7E80-408E-BC94-398155FC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2F30E-70C2-48E4-A492-E957DD51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58153-B3AE-470E-9986-C1B1002D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A065F-CDB6-4DCC-97E1-5EE7D90C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32C63-E135-4CC9-8AC9-18AB08C7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E0B98-15D3-4D31-B74A-D26CA7B3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F77C-8C97-49D4-B781-CB7B7A1D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17E0F-B873-4E01-BCE6-2AB45DA1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FB98E-FBDA-4F99-B665-68C34BBE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8152E-695D-4727-B185-ED848A14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CA9B8-CAE4-4619-88F2-1F3AB7FB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50D2A-341C-4C66-89B2-4143F939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AF3B8-6B8B-497A-A3B4-9FC0978C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F9274-DC63-4D19-84FB-1E1621F2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D0FD8-9B97-4259-B1CF-03B520F4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7CD14-D50A-4F88-A836-7B873A0A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00313-08CB-44BB-922B-D49D16CB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E8B-2CD1-4D36-A6BB-9C4F9DF6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45814-B3C9-42B1-B2DD-2EA705CA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90F3B-C088-47C3-810D-AB160904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60CD6-5BC6-4591-ACE8-209A08B4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33832-1F2E-4AC0-92CE-EFABFCF8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12C19-D10B-47E7-BEB8-6727995F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9F260-0D2E-471A-87A2-87BC6C00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58C79-81B5-4041-9AA1-DF71A628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D8445-ED17-48C4-A434-CB7B5971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1A7A6-9A8F-491D-938C-F4522E82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4D144-9A37-4986-89C9-A873004B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B7C-7572-45A6-9ED8-9FD5BEC2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A4989-6AAF-40D3-8E8C-4827F711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A2C-D84B-4783-9739-9416516C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45D-BA9F-44CC-A769-8A1EAC8E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5F4-CC66-48F9-B706-8B275E5D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42C4-6160-4AC7-89E9-89CDB8331A8C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DEA8-008A-4566-A74D-2D0222E7C718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880B-DF3E-44F8-A333-4338CBB55966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9696-F4BC-4B15-870B-D4CD9113F77C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A533-4B0B-4684-9AE7-FC5D998DF3A3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0" y="522900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Department of Electrical and Computer Engineering (ECE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School of Engineering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Hellenic Mediterranean University (HMU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0" name="Picture 3" descr="A picture containing logo&#10;&#10;Description automatically generated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urse title &amp; identity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itle: </a:t>
            </a:r>
            <a:r>
              <a:rPr b="1" lang="el-GR" sz="2400" spc="-1" strike="noStrike">
                <a:solidFill>
                  <a:srgbClr val="292934"/>
                </a:solidFill>
                <a:latin typeface="Arial"/>
              </a:rPr>
              <a:t>Computational Intelligenc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2520" indent="-1803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Introducing concepts, models, algorithms, and tools for development of intelligent systems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3" marL="994680" indent="-18036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Genetic Algorithm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994680" indent="-18036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Swarm intelligenc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994680" indent="-18036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Neural network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994680" indent="-18036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zzy systems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cus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2520" indent="-1803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Intelligent Computer System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0360" indent="-1803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embers of stuff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2520" indent="-1803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Giorgoa Papadourakis  (main)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2520" indent="-1803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Kostas Karambidis (secondary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d2533c"/>
                </a:solidFill>
                <a:latin typeface="Arial"/>
              </a:rPr>
              <a:t>Computational Intelligence 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4" name="Content Placeholder 3" descr="ci.jpg"/>
          <p:cNvPicPr/>
          <p:nvPr/>
        </p:nvPicPr>
        <p:blipFill>
          <a:blip r:embed="rId1"/>
          <a:stretch/>
        </p:blipFill>
        <p:spPr>
          <a:xfrm>
            <a:off x="684360" y="1380960"/>
            <a:ext cx="763272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pproach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ree (3) hours lectures: (YES)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Laboratory classes: (NO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ssignments 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15%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3 (every 3 weeks)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Project work: (YES)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60%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3 (Gas, Neural, Fuzzy)   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ed-term assessment (NO) 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nal assessment (YES)  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25%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pecific detail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6760" indent="-1767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riefly introduce lecturing strategy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176760" indent="-1767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Lectures, supported by transparencies using PowerPoint.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escribe assignments / project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176760" indent="-1767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Assignments will include programming  (any language C, C++, Java, or MATLAB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176760" indent="-1767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Project (2 people)  1 of 2 typ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08120" indent="-1767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1. Application Project (based on available freeware)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08120" indent="-1767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2. Software Developmen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08120" indent="-17676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All projects will involve: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3" marL="974520" indent="-176760"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Classroom presentations of project proposals: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974520" indent="-176760"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Classroom presentations of project results: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974520" indent="-176760"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34"/>
                </a:solidFill>
                <a:latin typeface="Arial"/>
              </a:rPr>
              <a:t>Project reports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76760" indent="-1767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Detail any R&amp;D project opportunities / relevance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176760" indent="-17676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Intelligent Systems  Laboratory Project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pplicant profil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Pre-requisites (knowledge of programming language or MATLAB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kills -  Interest on Intelligent Computer  System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xpected weekly workload:  3-4 hour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14:33:27Z</dcterms:created>
  <dc:creator>Dimosthenis</dc:creator>
  <dc:description/>
  <dc:language>en-US</dc:language>
  <cp:lastModifiedBy>Papadourakis</cp:lastModifiedBy>
  <dcterms:modified xsi:type="dcterms:W3CDTF">2022-10-03T09:09:51Z</dcterms:modified>
  <cp:revision>36</cp:revision>
  <dc:subject/>
  <dc:title>‘Informatics &amp; multimedia’</dc:title>
</cp:coreProperties>
</file>